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666-43EC-4DDA-8C45-A5E6634A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56F-7429-4D41-8BA3-8D1962E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55E-63D6-4DB6-AE46-BB1530E2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0B7-A06C-4368-BD20-4CD9FEF0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AAEB-052B-44CB-ADBF-1EC1A2D2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572-4630-41D1-A7DB-850532D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9C8-B8EE-49DE-99E8-349A24D5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4CE4-3AE5-4447-A3BF-1AA43142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ED2C-8D8F-4B0A-80E1-B6F0C50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920-6200-4E1C-A571-4A385BC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8822-2F88-437C-8B93-DBA8400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B91-ACA5-4710-8027-1B4F3F1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2890-E94B-41CF-8C94-8D939358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8240-51EA-40F1-9BA2-CB04629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E13F-36EA-4118-8683-7DA27E8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1B94-80A6-4585-B01A-8AA908E3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7C6-AE73-4DFC-8EF6-3AC255D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66E-D529-4EC6-8680-904C64E5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04F-14B1-4852-9473-93437316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D28-108F-4A60-9855-AB0FC96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841-F2CC-40E3-97D7-B51AB06C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50A-7333-4413-AFDD-BE503B8B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031-FD58-4D02-99C8-4148B49A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521-60A2-4347-B559-32556D2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04B8-CF73-4468-B7B2-3A2B23082FD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264F-77FB-4510-8B76-905918FBB90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187280" y="1484280"/>
            <a:ext cx="6840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сегда твой выбор!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0" y="3068640"/>
            <a:ext cx="1512720" cy="244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51280" y="1628280"/>
            <a:ext cx="316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7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50920" y="2133720"/>
            <a:ext cx="1152360" cy="431640"/>
          </a:xfrm>
          <a:prstGeom prst="wedgeRoundRectCallout">
            <a:avLst>
              <a:gd name="adj1" fmla="val -7712"/>
              <a:gd name="adj2" fmla="val 18198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4427640" y="1989000"/>
            <a:ext cx="1152360" cy="93672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>
            <a:lum bright="6000"/>
          </a:blip>
          <a:srcRect l="5198" t="0" r="0" b="0"/>
          <a:stretch/>
        </p:blipFill>
        <p:spPr>
          <a:xfrm>
            <a:off x="4356000" y="3284640"/>
            <a:ext cx="1300320" cy="190476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0"/>
          <p:cNvSpPr txBox="1"/>
          <p:nvPr/>
        </p:nvSpPr>
        <p:spPr>
          <a:xfrm>
            <a:off x="1547640" y="57340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5580000" y="5734080"/>
            <a:ext cx="292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5651640" y="1557360"/>
            <a:ext cx="3419280" cy="4032360"/>
          </a:xfrm>
          <a:prstGeom prst="rightArrowCallout">
            <a:avLst>
              <a:gd name="adj1" fmla="val 29485"/>
              <a:gd name="adj2" fmla="val 29483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5"/>
          <p:cNvSpPr/>
          <p:nvPr/>
        </p:nvSpPr>
        <p:spPr>
          <a:xfrm rot="10800000">
            <a:off x="899640" y="1628280"/>
            <a:ext cx="3419640" cy="3961080"/>
          </a:xfrm>
          <a:prstGeom prst="rightArrowCallout">
            <a:avLst>
              <a:gd name="adj1" fmla="val 28961"/>
              <a:gd name="adj2" fmla="val 28958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5" descr=""/>
          <p:cNvPicPr/>
          <p:nvPr/>
        </p:nvPicPr>
        <p:blipFill>
          <a:blip r:embed="rId1"/>
          <a:stretch/>
        </p:blipFill>
        <p:spPr>
          <a:xfrm>
            <a:off x="34920" y="3141720"/>
            <a:ext cx="1512720" cy="244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51280" y="1628280"/>
            <a:ext cx="316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7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250920" y="2133720"/>
            <a:ext cx="1152360" cy="431640"/>
          </a:xfrm>
          <a:prstGeom prst="wedgeRoundRectCallout">
            <a:avLst>
              <a:gd name="adj1" fmla="val -7712"/>
              <a:gd name="adj2" fmla="val 18198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427640" y="1989000"/>
            <a:ext cx="1152360" cy="93672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2">
            <a:lum bright="6000"/>
          </a:blip>
          <a:srcRect l="5198" t="0" r="0" b="0"/>
          <a:stretch/>
        </p:blipFill>
        <p:spPr>
          <a:xfrm>
            <a:off x="4356000" y="3284640"/>
            <a:ext cx="130032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0"/>
          <p:cNvSpPr txBox="1"/>
          <p:nvPr/>
        </p:nvSpPr>
        <p:spPr>
          <a:xfrm>
            <a:off x="1763640" y="5661000"/>
            <a:ext cx="23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5651640" y="5661000"/>
            <a:ext cx="2781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5689440" y="1557360"/>
            <a:ext cx="3419640" cy="4032360"/>
          </a:xfrm>
          <a:prstGeom prst="rightArrowCallout">
            <a:avLst>
              <a:gd name="adj1" fmla="val 29482"/>
              <a:gd name="adj2" fmla="val 29479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 rot="10800000">
            <a:off x="899640" y="1628280"/>
            <a:ext cx="3419640" cy="3961080"/>
          </a:xfrm>
          <a:prstGeom prst="rightArrowCallout">
            <a:avLst>
              <a:gd name="adj1" fmla="val 28961"/>
              <a:gd name="adj2" fmla="val 28958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WordArt 14"/>
          <p:cNvSpPr txBox="1"/>
          <p:nvPr/>
        </p:nvSpPr>
        <p:spPr>
          <a:xfrm>
            <a:off x="2124000" y="5877000"/>
            <a:ext cx="5562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ГДА ТВОЙ ВЫБОР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2496600"/>
            <a:ext cx="3744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2496600"/>
            <a:ext cx="5435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213336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АМОУТВЕРЖДЕ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АМОУТВЕРЖДЕ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1680" y="2204640"/>
            <a:ext cx="468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3816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0" y="1628280"/>
            <a:ext cx="424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3816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42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381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16000" y="764640"/>
            <a:ext cx="42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381636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16000" y="549000"/>
            <a:ext cx="424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16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50920" y="2349360"/>
            <a:ext cx="1152360" cy="432000"/>
          </a:xfrm>
          <a:prstGeom prst="wedgeRoundRectCallout">
            <a:avLst>
              <a:gd name="adj1" fmla="val -18180"/>
              <a:gd name="adj2" fmla="val 147425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572000" y="1916280"/>
            <a:ext cx="1152360" cy="93636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284720" y="328464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2"/>
          <a:stretch/>
        </p:blipFill>
        <p:spPr>
          <a:xfrm>
            <a:off x="106200" y="3284640"/>
            <a:ext cx="151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4:50:44Z</dcterms:created>
  <dc:creator>USER</dc:creator>
  <dc:description/>
  <dc:language>en-US</dc:language>
  <cp:lastModifiedBy>HP</cp:lastModifiedBy>
  <dcterms:modified xsi:type="dcterms:W3CDTF">2020-11-05T06:54:09Z</dcterms:modified>
  <cp:revision>11</cp:revision>
  <dc:subject/>
  <dc:title>Слайд 1</dc:title>
</cp:coreProperties>
</file>